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32B6-EB75-42F5-87F8-D657474D7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 to the website to go over thi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ew slides 18 through 21 with your participants so they know what options they can choose from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a project from an existing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roject (slide 18)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reate a new project from scratch (slides 19-2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team IDs with the wizard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reate specialized team IDs (slide 2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ping helps students represent their understanding as they investigate the nature of a problem that requires thinking about cause and effec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example investigates how hurricanes affect people, land, and business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usal map takes on the visual elements of concept maps, but places explicit meaning on each element in the map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nks between the factors depict causal relationships, showing an increase or decrease in the intensity of the effect by the thickness and color of the connecting lin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is very important to causal mapping because it means students can interpret the map due to its visual struct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d some of the factors on the ma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7C61-5ECD-465B-807A-32DCCD53E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B33E-6495-4920-8E09-036A5EBD1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03CD-5B5A-4082-96C9-CC4D3806D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C3A4-7F88-4090-8960-7D94729C6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94E2-26AB-449D-83A2-343ADA0D3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BBB5-77B6-443F-9E83-235D74F6F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4E8D-69E7-4CE1-A017-E51268BC3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70A2-BE3E-4122-B485-CE656A81D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0615-240B-4D1E-9CB3-EF9B4FD9E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87F0-F8AF-4507-902C-A86A86FCF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842A-1DCD-4CED-945A-B14EF19EA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499A-BD85-404F-946B-BA70480EE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4117-EE86-4299-84A6-5D200488A48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hyperlink" Target="http://www.intel.com/education/au/seeingreason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Cause and Eff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Understanding Cause and Effec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07–7.0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ause explain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h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something happe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effect describ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ha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happe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cause of X, Y happe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X affects 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X results in 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49C2-3D6F-4DE2-9F40-5FD120DEBC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Cause and Eff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Helping Students Understand Causa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lationships Using the Seeing Reason Tool –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09–7.1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the Traffic Jam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ice the sizes and colors of arrow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relationships between fact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the Comments box and view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having students create a practice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Viewing the Benefits of the Seeing Reason Tool –</a:t>
            </a:r>
            <a:br>
              <a:rPr sz="1400"/>
            </a:b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1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benefits for stud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benefits for teach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4BF8-D630-4CA1-9690-3A7763B417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800"/>
            </a:br>
            <a:br>
              <a:rPr sz="8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viewing the Power of the Seeing Reason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Tool –</a:t>
            </a:r>
            <a:br>
              <a:rPr sz="14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14–7.1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the types of thinking, classified by Costa and Kallick’s Habits of Mind, that can be targeted with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, student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st fact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ow relationshi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vestigate and revi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sent find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FE8B-366A-4048-8D7F-B266B30F39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derstanding What Makes a Good Project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1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derstand that a good projec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mplex, connected to real-world problem solv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as a meaningful research ques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influenced by factors that can be measured, observed, or verifi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interdisciplin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726A-9A62-4224-88C4-E2381A389C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800"/>
            </a:br>
            <a:r>
              <a:rPr b="1" lang="en-US" sz="8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8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76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Viewing Sample Projec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1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lect two or three project examp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e how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s used in each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e your thoughts and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itional project examples in Appendix C.03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can a project that uses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 to develop students’ think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Thinking About Your Uni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rainstorm ideas for effective uses of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6790-D798-4DCB-84A3-6837C802F6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Seeing Reas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37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Needs of Your Unit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19 – 7.2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your “Teaching and Learning Taxonomy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standards/syllabus outcomes you identified as ones that could possibly benefit from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f you do not believ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would be a good fit for your unit, you will have the opportunity to try out an idea for a different unit during this modu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E4A0-F8FB-420A-AD6F-A7494AF944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Viewing Sample Project Descriptions and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search Question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20 – 7.2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examples for how to write your ow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HelveticaNeue-Light"/>
              </a:rPr>
              <a:t>For more examples, see ideas starting on Appendix C.03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80880" y="329760"/>
            <a:ext cx="823752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Seeing Reas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ACC6-092F-4872-9450-F69C100214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Ideas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– Module 7.24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74760" y="1676520"/>
            <a:ext cx="85406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hare your ideas for a project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corporating th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Seeing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Reas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vide feedback on ways to target higher order thinking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482C-E518-457C-A00B-7EFE571D8A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reating a Seeing Reason project from an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Existing Projec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2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project wizard to copy an existing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your Curriculum Framing Questions, project priorities, and the Project Reflection Checklist, and then edit the project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py the details into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e steps 2 through 4 to create a new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(see next three slid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66EC-51D2-409B-A3E8-2A07C34F10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Creating Your Own Project Description and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Research Question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7.26–7.2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Unit Plan and review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prior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Reflection Checklist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the Project Description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d Research Question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your map or type them directly into your Unit Plan Templa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se is not appropriate for your unit, use th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available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 Resour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lder from the resource file 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6A90-FF04-495E-862F-8677BBFF81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914400"/>
          <a:ext cx="8237520" cy="4457880"/>
        </p:xfrm>
        <a:graphic>
          <a:graphicData uri="http://schemas.openxmlformats.org/drawingml/2006/table">
            <a:tbl>
              <a:tblPr/>
              <a:tblGrid>
                <a:gridCol w="1600200"/>
                <a:gridCol w="6637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ry out a project idea using th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e, share, and reflect on a practice ran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se your Unit Pl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your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experi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69800" y="5562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39A5-C679-4EB5-BDF4-E8E9D8FF92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Planning Your Use of Seeing Reas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2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the Unit Plan Templ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to the Seeing Reason se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Tit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Descri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earch Ques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your f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C562-D7B7-4C2B-AD8D-A5BF5DD78F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Creating a New Seeing Reason Projec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2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g in to your Teacher Worksp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new Seeing Reason project and complete the following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Nam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Descri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earch Questio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BBD4-6A94-4921-A605-156469E452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Teams IDs with the Project Wizard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3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project wizard to create team I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t least team for the practic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6: Creating Specialized Student Team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3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ter Team IDs individu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ip: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rite down your team IDs and password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FA1D-D491-418B-ABE0-C5A9F3A829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derstanding Best Practices with Seeing Reason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3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Step 1 – Viewing Instructional Strateg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Instructional Strategies and review categories of interest including Planning a Project, Implementing a Project, Assessing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View resources and articles on using Seeing Reason and understanding cause and effect from www.tmd.com.au/education/thinking/resour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Step 2 – Viewing Visual Ranking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intel.com/education/au/seeingreason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Project Examples, and review projects that integrate the Seeing Reason Tool in either Project Ideas or Unit Pla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7E78-0D1A-4B75-BE35-9EBE8B9D44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odule 7 </a:t>
            </a:r>
            <a:br>
              <a:rPr sz="2600"/>
            </a:br>
            <a:br>
              <a:rPr sz="9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33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5760" y="1886040"/>
          <a:ext cx="8237520" cy="266544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7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2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Tool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s useful to investigate multiple influences (factors) that impact other outcomes in a syste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factors and relationships in a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map should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asur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bserv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erifi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0D3E-0DC1-4798-B450-12DF25DC7E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942840"/>
            <a:ext cx="823752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8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for Your Un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 practi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usal m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and practice effective questioning techniqu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and receive feedback on project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your m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e your experience using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5732-94B9-4CB5-810F-31D7FC5AAB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A974-D4D2-4F5B-9B31-62C155DF27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7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sing the Seeing Reason Tool to Target Thinking Skill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a unit that integrates the use of the </a:t>
            </a:r>
            <a:br>
              <a:rPr sz="1800"/>
            </a:b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resent causal relationships visual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best uses of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and discuss ideas for incorporating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velop and share a project idea that use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ject onlin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BDC5-D3D8-4A3A-BCF0-86A96E66DF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990720"/>
          <a:ext cx="8237520" cy="3216240"/>
        </p:xfrm>
        <a:graphic>
          <a:graphicData uri="http://schemas.openxmlformats.org/drawingml/2006/table">
            <a:tbl>
              <a:tblPr/>
              <a:tblGrid>
                <a:gridCol w="1830240"/>
                <a:gridCol w="6407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6168-564B-462E-B973-30E6C0D689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7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Seeing Reason Tool to Target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760" y="1828440"/>
            <a:ext cx="47624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and discuss a unit in depth that integrates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cause and effect and how to represent causal relationships visu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discuss ideas for incorporat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nto un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roject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441440"/>
            <a:ext cx="4033800" cy="40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7C06-9A66-481F-8A6B-C75B29F0F1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eeing Reason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Taking a Look at Your Seeing Reason Map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0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 the Teacher Workspace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your most recent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maps in your Portfolio to see how your team’s thoughts have progress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id your maps chang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r maps show progression in think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this cycle of revisiting the maps increase deeper understand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is tool being beneficial in the classroom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8570-B6EB-455E-9AF8-5F6D9C3FCF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eeing Reason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04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Examining a Unit that Uses Seeing Reason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02–7.0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lore the Ecology Explorers unit in Appendix F.01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ok at how the unit deals with a complex system or cause-and-effect relationshi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maps in this unit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it Plan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cology Explorer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114C-59DD-4F13-930E-829ACDC235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Cause and Eff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nderstanding Causal Map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7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ps help students to visually represent specific measurable or verifiable factors that influence or impact a problem or syste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ausal map takes on the visual elements of a concept map, but places explicit meaning on each element of the map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9B45-F35D-4AF9-A5C8-C54AFF5CC5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116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nderstanding Causa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Maps</a:t>
            </a: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continued) – Module 7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usal maps have one specific purpose—to visually depict measurable or verifiable factors that </a:t>
            </a:r>
            <a:r>
              <a:rPr b="0" lang="en-US" sz="1600" spc="-1" strike="noStrike">
                <a:solidFill>
                  <a:srgbClr val="a6cae1"/>
                </a:solidFill>
                <a:latin typeface="Verdana"/>
              </a:rPr>
              <a:t>influen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</a:t>
            </a:r>
            <a:r>
              <a:rPr b="0" lang="en-US" sz="1600" spc="-1" strike="noStrike">
                <a:solidFill>
                  <a:srgbClr val="a6cae1"/>
                </a:solidFill>
                <a:latin typeface="Verdana"/>
              </a:rPr>
              <a:t> impac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 or syste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hurricanes affect people, land, and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usinesse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Cause and Effect</a:t>
            </a:r>
            <a:br>
              <a:rPr sz="2400"/>
            </a:br>
            <a:br>
              <a:rPr sz="16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24480" y="2008080"/>
            <a:ext cx="4495680" cy="32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7BF3-6B45-4436-82AF-54F9ACB9C1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7:13Z</dcterms:modified>
  <cp:revision>152</cp:revision>
  <dc:subject/>
  <dc:title>Presentation Title Goes Here</dc:title>
</cp:coreProperties>
</file>